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F6B-96DC-4BD7-88F2-45317D25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784-CFAB-408D-BA68-83FABDBF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4B0-5F61-453F-88F6-74216215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E91-3B28-4CC2-A791-8364E0CE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8357-DE06-4EAE-BA62-E398FD69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9ECE-F657-4BF9-90AC-46B94738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EF43-AB70-45AA-AF37-103F9BF5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7CDF-CF71-4005-ADB3-62023D52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0156-1259-44FB-B073-3B4A22CC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532A-B2DF-45AC-B73E-98A5F6BC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5457-2E52-4529-BD5B-1D6F0861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2E2-3B50-4071-9D26-489299DB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874E-571D-4AAA-AA2D-8BA82BE8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3BB7-AC8F-4853-9427-9AA5B044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8056-15CB-4E87-9B6B-8E2F4552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20F0-B1A4-4FD6-BC6B-F867492A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5F2A-D1F0-40C8-A52A-EC1FD0C1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6FB-CDFD-4B47-8134-E1793D43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FB7-A158-4B38-A93D-35250B1E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8A2-5268-4E0C-8684-3087BC02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E9E-D316-44B4-9EB3-3902DA9C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671-9404-46F9-AEBE-A03DF9CB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509-F8C5-46B6-967A-C7B61043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B2E-0DF7-4FF1-8928-DA99742E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D7AC-7D8A-4320-A7C7-D7774F48D8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3857-6F6F-4D60-A745-5C0A2AE91A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1B3B-1D70-4004-8BE9-281BBEB97A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</a:rPr>
              <a:t>The National Training Reform Agen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Key aims of the Agenda are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mote a flexible and cohesive vocational education and train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balance the provision of broad education and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reate a more highly skilled and adaptable work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crease the competitiveness and productivity of Australian industry through industry responsive reform of the vocational education and train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D432-D8C9-4414-9177-64FEFD5B87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mmon langua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068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0B38-5133-43D8-8C7E-A00EAE0700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omic Sans MS"/>
              </a:rPr>
              <a:t>AQF Qualif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1" name="Object 0"/>
          <p:cNvGraphicFramePr/>
          <p:nvPr/>
        </p:nvGraphicFramePr>
        <p:xfrm>
          <a:off x="458640" y="1887480"/>
          <a:ext cx="8220240" cy="467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887480"/>
                    <a:ext cx="822024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B2AB-0E41-4276-9BE6-A9146EB6B4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Pathways Conce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67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663D-A15B-42B6-B3B1-D162683CC3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ualification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2296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CBFC-46C8-4348-A725-9B49A2156D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7375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</a:rPr>
              <a:t>What are the benefits of AQF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5105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A national fra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Recognition of different education and training path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Reflection of the changes in vocational education and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Object 4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9842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9CC6-BD52-47DB-9AE7-507B8A9197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</a:rPr>
              <a:t>National Framework for the recognition of trai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is means that courses and training programs offered anywhere in Australia can be part of a national system. Individuals undertaking these courses will have their skills recognised nationally. The framework allows for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ccreditation of cour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Recognition of training progra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Registration of providers to offer accredited courses and recognised training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DC36-D1FB-4348-8985-A2843362DB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Accreditation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1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dentify Industry, Enterprise or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Community Training n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2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3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ccess and Path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4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lexible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5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rticulation and Credit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6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Customisation of Cour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7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8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going Monitoring and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1337-CE2C-44B2-A472-ED304868BB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QF Advisory 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4AC1-13D8-4AC4-B1D8-C67B735957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The NTRA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6019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Reforms at the time were driven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demands for training and skills development at all levels of the work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development of a training market that increased choice and improved 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n emphasis on demonstrated competence rather than on length of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3115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E0E7-C29A-4095-AC08-6CE87E3204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omic Sans MS"/>
              </a:rPr>
              <a:t>The NTRA continued…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greater flexibility in the delivery of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evelopment of nationally consistent training  standards and credent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mproved access to training for disadvantaged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mproved transferability and         articulation of courses between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Object 5" descr=""/>
          <p:cNvPicPr/>
          <p:nvPr/>
        </p:nvPicPr>
        <p:blipFill>
          <a:blip r:embed="rId1"/>
          <a:stretch/>
        </p:blipFill>
        <p:spPr>
          <a:xfrm>
            <a:off x="7238880" y="3733920"/>
            <a:ext cx="15242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A58F-1DAD-47D1-BA14-312ADB1DCC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4012920" cy="33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mic Sans MS"/>
              </a:rPr>
              <a:t>International Competitive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mic Sans MS"/>
              </a:rPr>
              <a:t>Industry Restructu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mic Sans MS"/>
              </a:rPr>
              <a:t>Workplace Refor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Object 4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5530-19EE-4554-B5C1-B87DAF7C5B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Workplace Reform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articipative and team based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greater delegation of auth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mphasis on efficiency and produ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xamples of best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evelopment of career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vailability of individuals’ learning opport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ustomer-focused and response to changing national and international marketing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7768-93B2-4415-A6F2-55B64D14DF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arge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etency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624120" cy="4390920"/>
          </a:xfrm>
          <a:prstGeom prst="rect">
            <a:avLst/>
          </a:prstGeom>
          <a:ln w="0">
            <a:noFill/>
          </a:ln>
        </p:spPr>
      </p:pic>
      <p:sp>
        <p:nvSpPr>
          <p:cNvPr id="105" name="Line 4"/>
          <p:cNvSpPr/>
          <p:nvPr/>
        </p:nvSpPr>
        <p:spPr>
          <a:xfrm>
            <a:off x="2438280" y="10666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FE7C-0D19-4D01-B737-3C62B81BC2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Competency Standar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mic Sans MS"/>
              </a:rPr>
              <a:t>The specification of the knowledge and skill and application of that knowledge and skill across industries or within an industry to the standard of performance required in employme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18C5-87FF-480E-BDDC-FDD6000DB7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omic Sans MS"/>
              </a:rPr>
              <a:t>Key competenci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organising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planning and organisi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working with others in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using mathematical idea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solving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using techn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79E8-167C-468B-A9CE-3C5996AEA7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</a:rPr>
              <a:t>The Australian Qualifications Framework (AQF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The AQF covers qualifications issued by the secondary schools sector, vocational education and training providers (including TAFE and other registered providers) and higher education institutions (mainly univers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Object 4" descr=""/>
          <p:cNvPicPr/>
          <p:nvPr/>
        </p:nvPicPr>
        <p:blipFill>
          <a:blip r:embed="rId1"/>
          <a:stretch/>
        </p:blipFill>
        <p:spPr>
          <a:xfrm>
            <a:off x="6781680" y="3276720"/>
            <a:ext cx="1981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7T03:27:23Z</dcterms:created>
  <dc:creator>Mr &amp; Mrs McLeod</dc:creator>
  <dc:description/>
  <dc:language>en-US</dc:language>
  <cp:lastModifiedBy>John</cp:lastModifiedBy>
  <cp:lastPrinted>1999-06-30T04:56:07Z</cp:lastPrinted>
  <dcterms:modified xsi:type="dcterms:W3CDTF">2009-08-03T09:06:43Z</dcterms:modified>
  <cp:revision>31</cp:revision>
  <dc:subject/>
  <dc:title>The National Training Reform Agenda</dc:title>
</cp:coreProperties>
</file>